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72A-7AF9-4AEB-872B-6FEAB151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02F-0ADA-4067-9A1F-CF036AC6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665-708E-4ACF-BF52-8B21D0D5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D38-6F9C-45FF-8FA4-27885DDC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35E-48BF-4AB9-A82F-BFC483FD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08C-67C0-49C7-B686-8FA386E5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57A-98BE-4F8B-B7C3-01112007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AB5-32EC-4B45-BA52-E23DB65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963-FE64-4FF4-947B-712A286F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B36-B4B9-4D3C-8B50-2D93FAF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680-A095-45FC-B2E8-1A46F28A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473-6EFB-43A2-9473-75F397D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0FFA-7C13-4230-8365-F98BBAD76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0560" y="1117080"/>
            <a:ext cx="8447040" cy="12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ritique of a TV Commer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51160" y="2743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90880" y="6095880"/>
            <a:ext cx="5164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: Erin, Brandee and Conni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1: Define the produ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atched a commercial for _________.  The company is 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0160" y="27432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2: Describ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happened in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 that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l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en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30211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3: Analyz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time of day did you see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show were you watching when you saw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ere the important things in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id you remember most about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 do you think the commercial was made f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59120" y="4368960"/>
            <a:ext cx="28083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4: How does the commercial try to persuade the audie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mmercial uses __________ to try to persuade the audience.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: mus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nguage (the best, the most afford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lebrities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xt (large, colorful fo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ts (doctors say..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84880" y="4673520"/>
            <a:ext cx="3591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5: Do you think the commercial is realistic or hones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9679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my opinion, the commercial is/is not _______________ because _______________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41680" y="3251160"/>
            <a:ext cx="4825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ep 6: Do you like the commercial?  Why or why not?  Would you buy the produc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969560"/>
            <a:ext cx="950760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like this commercial because 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on't like this commercial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ould/would not buy this product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07400" y="5380200"/>
            <a:ext cx="2147760" cy="231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10280" y="3149640"/>
            <a:ext cx="18306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